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ADBE-087D-4732-A9F9-6C8E9256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E23-A19D-4327-9123-6FC82EF4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0F711-4060-41D6-A34E-5F80640E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6B150-B76C-49B9-9461-B5F9C6A5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1DD70-9AF7-4D1A-BF2B-20A05290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47D86-7CB3-465E-880F-2CC4FA7F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1EB51-B883-4AEF-8A76-0B96B994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455FE-0E4C-44A1-9BAD-B513241C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1CC13-F44E-4CAD-B955-7662809A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80592-5F2B-401F-8E9E-91A3551E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2FA40-9E7C-46FA-8877-82E12984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9C6FC-8A6D-4FF3-96B4-A52F358C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F61-1DAD-4F93-A528-FB00D51A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799DD-902C-44C9-8323-BEA0DC40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92C2B-2EFA-4A6C-A310-AE08D8DE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C3A8E-4EC0-4553-8AA1-B83D9F5A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14FA4-2605-472E-96AD-D0096C25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059D8-CED7-4FAA-AA09-3F4A8344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B6702-3A2D-44C6-8B27-27C2F489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D0787-7C0B-4FB2-90FC-080403A7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EA73B-2372-4DC4-8F64-C3C7C8F9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C84FA-C507-4343-B493-DB0E5D17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2F9F1-975F-4CFC-B57E-795822FF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31CA-9689-46FE-9EE0-5217EBCB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42B19-C810-4DF5-85BA-7F2AEEA0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091DC-F2D4-464F-BEB4-EDAC9CE2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0E9D6-9A94-4E5D-98BA-80009149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6F924-F7B0-4FF9-8DEC-BC73CBC6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30023-0373-4474-934B-477FFA7C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C883D-ECC7-43B4-924B-41B532CA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EE3DB-D07D-4A75-8FD7-B912701C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3114F-23D9-4A8B-B2B7-FDD7A1C2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7C380-057B-488F-89C2-6B328AFD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42F06-734C-463B-AFCD-7FF8B403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AB23-B94D-420F-9E10-01D6BEA7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296ED-6CEC-44CF-A8A4-52C7C624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028BD-44BD-4555-BDB4-A4A74507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FD593-6AF6-41CA-8A0A-7121228C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FE397-EC8B-4E86-8948-D3690C35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CA1CD-2204-499F-B48E-309099D3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325F8-ABF2-4711-9305-13530FF2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624B8-4E7A-4FAC-A701-9B4B6E61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D58BD-7526-41E5-92AA-6B2856A2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5A556-942D-49D2-9097-1FB9C5A6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20E2B-0A00-47C6-A584-1A23A251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843B-B3B8-433D-9261-26C77D57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F2D9B-1186-4261-9C7D-ED3B6B99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6CAE5-5A8C-4033-8B4C-D4F2B9AD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44131-8DC6-4EFF-9C6B-6C887E6D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50247-5817-4BD7-9D82-D90A1CEF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1EA33-EE82-490D-8AF9-35F8008F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BDFC-2F88-4E5E-A516-CACCFF73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B787-B178-4C64-A6A5-DF2636D1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A57B-89D9-43F8-832F-754D0460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2AC4-33C2-4D58-81A4-D281B08B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0BBA-8F2C-4EC1-9003-BF20ECE9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52F-BD21-4F4D-9E14-C1166581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869B-5FA3-4AE7-8B55-34025593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ED9B-A8B6-44A3-BD07-0994A927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9089-A057-4DA8-9894-24781057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14CF-FFDF-4AF3-8B66-C06D117C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1048-EAD6-4BF7-BC63-91667995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5132B-5DCC-454B-960D-48F03BB8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6592-2976-4A44-8401-755B4F79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8F2E6-221E-492E-95CE-71C29BA4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D0796-8B58-4737-B986-E34769A8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54978-2EAD-44B9-A6B6-3F0996D7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2B1-14A2-41EE-886D-74FE33F1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F30B-4011-4178-AB24-6C5C3051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E811C-0928-404E-A7DA-0C001B20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13B64-9BD4-453A-B045-7223034C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B4C32-8293-43B1-943F-5E638EB8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DA38-38CD-4012-BD97-B3243595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ABE3-BEB8-4A71-A09C-AB18BF33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C1D6A-4ED3-4415-93D3-5453D9CD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A87DE-CB84-4648-966D-1869C717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B7677-7F01-4BEB-9FF4-38F1301B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66AA1-DA54-4644-B3CD-71404D8D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6F7-A75E-41B2-94C5-08E360A7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B4E84-9794-4E88-ACE6-234A541F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BF8D9-580B-40C8-8350-CF8FEAA8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CBC85-7A25-411B-A83B-88DFE995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2988C-3E9E-4F53-A545-A687FD99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FD42F-998B-44B9-B09C-AF247020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DAA74-F4F8-4913-B8AF-762D42F7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8ECC6-B6C2-48D3-A468-DA1B9C88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C2509-BB56-476C-8606-335A69AA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8F4FA-421F-486F-B0A8-0772A8EF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CDB24-79F6-4C0B-8AFC-F2CD4CA6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3C1-8016-40D3-9C71-A812FB80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0A74E-E190-468A-A785-E8E596F4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90865-4692-4975-B545-14F696C1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E553D-9994-458E-8731-2AD6F424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9A1E0-B4A7-4830-B56E-A02AEF69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DA24D-6349-45E1-B1DC-20415A12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6CF50-EA97-4C98-9C0F-09D2301A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BFBE2-56D0-44E3-9E71-011A35ED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DD46B-3608-4D12-A1E2-2C0F2564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65970-95B5-4D1C-8534-9E0B816B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17503-F290-4010-82BD-4DDF7F8B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1F6-F1C5-4827-92B2-5F5BBD89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E7D2E-68FE-41A0-875D-1853D2D2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0FD98-E89F-4E83-BC72-9A658B51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6C915-1EBF-4349-AD2F-19E96049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6E30C-ED71-43E9-BE95-4A3EBD7F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D8D37-E082-4D3E-B5AF-291B48BB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002CB-FD39-4C2F-8B98-891C68F4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6524E-70D0-44F5-9D81-FA9C47DA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88E51-8460-4F53-AAA7-C04035E5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DEE49-D503-4F3E-9B70-97B5792D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EE5F7-2B58-41F6-B183-F5B1798E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F4F-17EC-446E-885D-CDB69C4C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B2A05-F2E4-4471-B3E3-F9E253D5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8AB51-B0EB-42FC-BA45-D3B12652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82378-4B78-42FA-A8EB-1344862B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2D32C-36E0-4426-8F1A-C213FC30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3F08B-DA3D-482C-8ACC-BD48BE56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F7EBD-E835-49E6-B018-2BAFB86A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72C43-FFF8-4CF7-B7AD-74E83F1B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5402E-897E-4F23-9CDE-95BB7EAF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BF1BC-0DB0-4B8E-9DAF-EFBEE949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669F1-F282-4DC6-A0E9-39D09C85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529-E310-4DC2-ADD6-D00426A7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5E482-DA0F-46F4-9A20-3204D2C4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9F9D5-3B29-4D60-BE9A-47AF2B70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401B8-777C-4A94-A0D0-288C028A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E1A88-2005-4815-8E46-03207B84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69675-9D41-466A-8AEC-D954AF67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6DC3E-F793-4C46-843D-77A996F5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6CBDD-FBCD-4BB0-A86F-0D5CC6CC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775DE-671A-4497-8296-E645EFAF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0740C-4FDE-438E-AB42-026D7C92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275A9-89EC-4A52-B52E-D8780F70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C54-14FB-4519-B17F-92F04337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ADC74-B587-4241-90CF-3685F09D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092E7-BA60-43A8-A42C-FC9B0D6B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4A766-8F4F-4D51-AAF7-CEEA4B51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1A7B8-D42B-4096-9FF2-63649E12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3560F-3EAD-4EDB-92B0-E4DC1922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D3D33-539D-4E0B-A815-1A3D95E8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73E1C-F1F8-4ADF-9AB4-01E3998C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668D2-8EFF-4114-9191-C5972BA0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B22AE-D6C1-4C68-B23D-D7B1DB7F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4F587-360B-4597-B922-6EE9E9EF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4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1024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1024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1024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1024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1024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1024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8B5B-E3B3-4A48-9C86-ADAB23B2068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064A-67BC-42C1-929D-0F6505ADEE8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12E4-D096-451F-B67D-BBBEE0ADA33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2929-FE25-44D1-8FA4-5D6097F98ED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1126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1126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1126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1126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1126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1127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1127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E252-0344-4CC7-B341-7641F8FD8EC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65B6-52A0-4284-8F9A-6833E78CD6A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C6FD-B492-457B-9208-91D6CDEF622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8F51-9FCD-4B83-B406-0869C6FC870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8D6F-F921-4F53-8D6B-D47B49D2DF8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C70D-AC59-4BCD-9B58-6FAE1C357D4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4048-1336-47BE-BEDE-D93FB74BA1F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A96A-46D1-4C10-A9E1-D5112200B10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7" descr="u=1521942418,1505818563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WordArt 8"/>
          <p:cNvSpPr txBox="1"/>
          <p:nvPr/>
        </p:nvSpPr>
        <p:spPr>
          <a:xfrm>
            <a:off x="3124080" y="685800"/>
            <a:ext cx="2667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雪梅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08" name="WordArt 9"/>
          <p:cNvSpPr txBox="1"/>
          <p:nvPr/>
        </p:nvSpPr>
        <p:spPr>
          <a:xfrm>
            <a:off x="3733920" y="30481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uFillTx/>
                <a:latin typeface="宋体"/>
              </a:rPr>
              <a:t>卢梅坡</a:t>
            </a:r>
            <a:endParaRPr b="0" i="1" lang="en-US" sz="2400" spc="-1" strike="noStrike" u="sng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509" name="雨果 - 梅花三弄.mp3" descr=""/>
          <p:cNvPicPr/>
          <p:nvPr/>
        </p:nvPicPr>
        <p:blipFill>
          <a:blip r:embed="rId4"/>
          <a:stretch/>
        </p:blipFill>
        <p:spPr>
          <a:xfrm>
            <a:off x="19051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5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5" descr="6398ecd391685de1a9ec9a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3719160" y="1798560"/>
            <a:ext cx="127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27080" tIns="2232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720240" y="2286720"/>
            <a:ext cx="2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3720240" y="2851920"/>
            <a:ext cx="2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3099240" y="3585240"/>
            <a:ext cx="2808360" cy="253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雪争春未肯降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骚人阁笔费评章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须逊雪三分白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雪却输梅一段香。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3719520" y="3980880"/>
            <a:ext cx="421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3741120" y="4409640"/>
            <a:ext cx="5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， 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3720960" y="4898520"/>
            <a:ext cx="28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8" name="WordArt 13"/>
          <p:cNvSpPr txBox="1"/>
          <p:nvPr/>
        </p:nvSpPr>
        <p:spPr>
          <a:xfrm>
            <a:off x="3352680" y="1371600"/>
            <a:ext cx="2438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雪梅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5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8" descr="u=2072612233,2288342106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WordArt 6"/>
          <p:cNvSpPr txBox="1"/>
          <p:nvPr/>
        </p:nvSpPr>
        <p:spPr>
          <a:xfrm>
            <a:off x="4952880" y="304920"/>
            <a:ext cx="2590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宋体"/>
              </a:rPr>
              <a:t>作者简介</a:t>
            </a:r>
            <a:endParaRPr b="0" i="1" lang="en-US" sz="2400" spc="1" strike="noStrike" u="sng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4343400" y="2918880"/>
            <a:ext cx="403848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卢梅坡，南宋诗人。生卒年不详。历史关于他的记载很少，几乎没有，我们只能从他的诗词与别人的诗词中推测他简单的一些经历。 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他最有名的词就是两首雪梅了 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有梅无雪不精神，有雪无诗俗了人。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日暮诗成天又雪，与梅并作十分春。 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雪争春未肯降，骚人阁笔费评章。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须逊雪三分白，雪却输梅一段香。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两首词可见这位文人的雅兴和志趣。他喜爱梅花应是到了极点 。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Rectangle 12"/>
          <p:cNvSpPr/>
          <p:nvPr/>
        </p:nvSpPr>
        <p:spPr>
          <a:xfrm>
            <a:off x="2162520" y="2312280"/>
            <a:ext cx="32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Rectangle 13"/>
          <p:cNvSpPr/>
          <p:nvPr/>
        </p:nvSpPr>
        <p:spPr>
          <a:xfrm>
            <a:off x="2162520" y="2801160"/>
            <a:ext cx="32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2162520" y="3229920"/>
            <a:ext cx="3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Rectangle 15"/>
          <p:cNvSpPr/>
          <p:nvPr/>
        </p:nvSpPr>
        <p:spPr>
          <a:xfrm>
            <a:off x="2162160" y="3779280"/>
            <a:ext cx="421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Rectangle 16"/>
          <p:cNvSpPr/>
          <p:nvPr/>
        </p:nvSpPr>
        <p:spPr>
          <a:xfrm>
            <a:off x="2162520" y="4268160"/>
            <a:ext cx="32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Rectangle 17"/>
          <p:cNvSpPr/>
          <p:nvPr/>
        </p:nvSpPr>
        <p:spPr>
          <a:xfrm>
            <a:off x="2286360" y="4800240"/>
            <a:ext cx="3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Rectangle 18"/>
          <p:cNvSpPr/>
          <p:nvPr/>
        </p:nvSpPr>
        <p:spPr>
          <a:xfrm>
            <a:off x="2163600" y="5109480"/>
            <a:ext cx="28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5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7" descr="u=1734265470,4026799435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WordArt 8"/>
          <p:cNvSpPr txBox="1"/>
          <p:nvPr/>
        </p:nvSpPr>
        <p:spPr>
          <a:xfrm>
            <a:off x="1066680" y="609480"/>
            <a:ext cx="25909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雪梅</a:t>
            </a:r>
            <a:endParaRPr b="0" i="1" lang="en-US" sz="2400" spc="-1" strike="noStrike" u="sng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31" name="Rectangle 9"/>
          <p:cNvSpPr/>
          <p:nvPr/>
        </p:nvSpPr>
        <p:spPr>
          <a:xfrm>
            <a:off x="685800" y="3124080"/>
            <a:ext cx="2895480" cy="2654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雪争春未肯降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骚人阁笔费评章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须逊雪三分白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雪却输梅一段香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WordArt 10"/>
          <p:cNvSpPr txBox="1"/>
          <p:nvPr/>
        </p:nvSpPr>
        <p:spPr>
          <a:xfrm>
            <a:off x="5486400" y="762120"/>
            <a:ext cx="1981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宋体"/>
              </a:rPr>
              <a:t>注释</a:t>
            </a:r>
            <a:endParaRPr b="0" i="1" lang="en-US" sz="2400" spc="1" strike="noStrike" u="sng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33" name="Rectangle 11"/>
          <p:cNvSpPr/>
          <p:nvPr/>
        </p:nvSpPr>
        <p:spPr>
          <a:xfrm>
            <a:off x="4495680" y="3701520"/>
            <a:ext cx="385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降（</a:t>
            </a: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xiáng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），服输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②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阁，同“搁”，放下。评章，评议的文章，这里指评议梅与雪的高下</a:t>
            </a:r>
            <a:r>
              <a:rPr b="0" i="1" lang="zh-CN" sz="3200" spc="-1" strike="noStrike" u="sng">
                <a:solidFill>
                  <a:srgbClr val="9933ff"/>
                </a:solidFill>
                <a:uFillTx/>
                <a:latin typeface="Arial"/>
                <a:ea typeface="宋体"/>
              </a:rPr>
              <a:t>。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5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5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7" descr="u=393120433,63026645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WordArt 8"/>
          <p:cNvSpPr txBox="1"/>
          <p:nvPr/>
        </p:nvSpPr>
        <p:spPr>
          <a:xfrm>
            <a:off x="5791320" y="457200"/>
            <a:ext cx="2133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uFillTx/>
                <a:latin typeface="宋体"/>
              </a:rPr>
              <a:t>解释</a:t>
            </a:r>
            <a:endParaRPr b="0" i="1" lang="en-US" sz="2400" spc="-1" strike="noStrike" u="sng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sp>
        <p:nvSpPr>
          <p:cNvPr id="536" name="WordArt 9"/>
          <p:cNvSpPr txBox="1"/>
          <p:nvPr/>
        </p:nvSpPr>
        <p:spPr>
          <a:xfrm>
            <a:off x="1219320" y="609480"/>
            <a:ext cx="2057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uFillTx/>
                <a:latin typeface="宋体"/>
              </a:rPr>
              <a:t>雪梅</a:t>
            </a:r>
            <a:endParaRPr b="0" i="1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uFillTx/>
              <a:latin typeface="宋体"/>
              <a:ea typeface="宋体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685800" y="3048120"/>
            <a:ext cx="3200400" cy="308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雪争春未肯降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骚人阁笔费评章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须逊雪三分白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雪却输梅一段香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Rectangle 11"/>
          <p:cNvSpPr/>
          <p:nvPr/>
        </p:nvSpPr>
        <p:spPr>
          <a:xfrm>
            <a:off x="4343400" y="3627360"/>
            <a:ext cx="4495680" cy="180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梅花和雪花都认为各自占尽了春色，谁也不肯服输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难坏了诗人，难写评判文章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说句公道话，梅花须逊让雪花三分晶莹洁白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雪花却输给梅花一段清香。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360" y="3534840"/>
            <a:ext cx="32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Rectangle 13"/>
          <p:cNvSpPr/>
          <p:nvPr/>
        </p:nvSpPr>
        <p:spPr>
          <a:xfrm>
            <a:off x="1080" y="388728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5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7" descr="u=2079514108,2005755717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WordArt 8"/>
          <p:cNvSpPr txBox="1"/>
          <p:nvPr/>
        </p:nvSpPr>
        <p:spPr>
          <a:xfrm>
            <a:off x="609480" y="380880"/>
            <a:ext cx="2362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uFillTx/>
                <a:latin typeface="宋体"/>
              </a:rPr>
              <a:t>赏析</a:t>
            </a:r>
            <a:endParaRPr b="0" i="1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43" name="Rectangle 9"/>
          <p:cNvSpPr/>
          <p:nvPr/>
        </p:nvSpPr>
        <p:spPr>
          <a:xfrm>
            <a:off x="3429000" y="312300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古今不少诗人往往把雪、梅并写。雪因梅，透露出春的信息，梅因雪更显出高尚的品格。如毛泽东</a:t>
            </a:r>
            <a:r>
              <a:rPr b="0" i="1" lang="en-US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《</a:t>
            </a:r>
            <a:r>
              <a:rPr b="0" i="1" lang="zh-CN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卜算子</a:t>
            </a:r>
            <a:r>
              <a:rPr b="0" i="1" lang="en-US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·</a:t>
            </a:r>
            <a:r>
              <a:rPr b="0" i="1" lang="zh-CN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咏梅</a:t>
            </a:r>
            <a:r>
              <a:rPr b="0" i="1" lang="en-US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》</a:t>
            </a:r>
            <a:r>
              <a:rPr b="0" i="1" lang="zh-CN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中就曾写道：“风雨送春归，飞雪迎春到。已是悬崖百丈冰，犹有花枝俏。俏也不争春，只把春来报。待到山花烂漫时，她在丛中笑。”雪、梅都成了报春的使者、冬去春来的象征。但在诗人卢梅坡的笔下，二者却为争春发生了“摩擦”，都认为各自占尽了春色，装点了春光，而且谁也不肯相让。这种写法，实在是新颖别致，出人意料，难怪诗人无法判个高低。诗的后两句巧妙地托出二者的长处与不足：梅不如雪白，雪没有梅香，回答了“骚人阁笔费评章”的原因，也道出了雪、梅各执一端的根据。读完全诗，我们似乎可以看出作者写这首诗是意在言外的：借雪梅的争春，告诫我们人各有所长，也各有所短，要有自知之明。取人之长，补己之短，才是正理。这首诗既有情趣，也有理趣，值得咏思。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7" descr="u=339281186,2431625507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WordArt 9"/>
          <p:cNvSpPr txBox="1"/>
          <p:nvPr/>
        </p:nvSpPr>
        <p:spPr>
          <a:xfrm>
            <a:off x="4572000" y="380880"/>
            <a:ext cx="3124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uFillTx/>
                <a:latin typeface="宋体"/>
              </a:rPr>
              <a:t>雪梅</a:t>
            </a:r>
            <a:endParaRPr b="0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  <p:sp>
        <p:nvSpPr>
          <p:cNvPr id="546" name="Rectangle 10"/>
          <p:cNvSpPr/>
          <p:nvPr/>
        </p:nvSpPr>
        <p:spPr>
          <a:xfrm>
            <a:off x="4495680" y="2743200"/>
            <a:ext cx="3505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梅雪争春未肯降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骚人阁笔费评章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梅须逊雪三分白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雪却输梅一段香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5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3:31:56Z</dcterms:created>
  <dc:creator/>
  <dc:description/>
  <dc:language>en-US</dc:language>
  <cp:lastModifiedBy>万润仪器贸易公司</cp:lastModifiedBy>
  <dcterms:modified xsi:type="dcterms:W3CDTF">2020-08-24T03:32:02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